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253-536C-4E10-A0B0-606B58E6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EF6-F974-43A0-87B9-0A58475A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16E-AE87-4360-8CD1-FA612ADE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A7C-7927-48DD-A16A-BAED66B5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205-517F-4AF3-BFF5-F120A266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DB5-F17A-47B3-A11A-7EEB040F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DF4-FC2A-48C6-BFB0-B131E8FC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7D9-A5C7-441D-B8CE-F476BAC7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960-F2BC-4E6B-B703-00ED2DEE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179-6B29-4CF5-ABDA-7A34EBA5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C1D-D138-4013-ADAA-03D0A038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F52-414F-45D4-896E-07015BEC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C639-907B-4CBF-BCEE-EBF813159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1219320"/>
            <a:ext cx="601956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cc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Cells &amp; Organ </a:t>
            </a:r>
            <a:endParaRPr b="0" lang="en-US" sz="1800" spc="1" strike="noStrike">
              <a:ln w="12600">
                <a:solidFill>
                  <a:srgbClr val="00cc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cc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 Black"/>
              </a:rPr>
              <a:t>Systems</a:t>
            </a:r>
            <a:endParaRPr b="0" lang="en-US" sz="1800" spc="1" strike="noStrike">
              <a:ln w="12600">
                <a:solidFill>
                  <a:srgbClr val="00cc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971800" y="609480"/>
            <a:ext cx="3124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ell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621320"/>
            <a:ext cx="2971800" cy="2236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599" t="52519" r="39432" b="12949"/>
          <a:stretch/>
        </p:blipFill>
        <p:spPr>
          <a:xfrm>
            <a:off x="6172200" y="457200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25274" t="60789" r="47096" b="0"/>
          <a:stretch/>
        </p:blipFill>
        <p:spPr>
          <a:xfrm>
            <a:off x="3124080" y="3276720"/>
            <a:ext cx="2743200" cy="2262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52280" y="3886200"/>
            <a:ext cx="264816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d Blood Cell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14600" y="2438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on Ebner's Gland Cel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24600" y="3962520"/>
            <a:ext cx="31194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ite Blood Cel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362320" y="152280"/>
            <a:ext cx="3657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issu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4471920"/>
            <a:ext cx="2590920" cy="2386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228600" y="4038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943600" y="445788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19920" y="40384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90920" y="3200400"/>
            <a:ext cx="3352680" cy="268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19520" y="2590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90920" y="0"/>
            <a:ext cx="3705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cc00cc">
                        <a:alpha val="50196"/>
                      </a:srgbClr>
                    </a:gs>
                    <a:gs pos="100000">
                      <a:srgbClr val="87008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gan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cc00cc">
                      <a:alpha val="50196"/>
                    </a:srgbClr>
                  </a:gs>
                  <a:gs pos="100000">
                    <a:srgbClr val="87008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18001" t="2504" r="34007" b="0"/>
          <a:stretch/>
        </p:blipFill>
        <p:spPr>
          <a:xfrm>
            <a:off x="0" y="3886200"/>
            <a:ext cx="2209680" cy="2971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3352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10400" y="4076640"/>
            <a:ext cx="3333600" cy="2781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10280" y="3657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20112" t="13945" r="24029" b="0"/>
          <a:stretch/>
        </p:blipFill>
        <p:spPr>
          <a:xfrm>
            <a:off x="2438280" y="2895480"/>
            <a:ext cx="3200400" cy="3581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1280" y="23623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666880" y="0"/>
            <a:ext cx="3772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rgan Syste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7323"/>
          <a:stretch/>
        </p:blipFill>
        <p:spPr>
          <a:xfrm>
            <a:off x="0" y="3733920"/>
            <a:ext cx="3276720" cy="2895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2619360" cy="2467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20931" t="0" r="0" b="0"/>
          <a:stretch/>
        </p:blipFill>
        <p:spPr>
          <a:xfrm>
            <a:off x="6553080" y="3657600"/>
            <a:ext cx="2590920" cy="3200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3276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1523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048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286000" y="0"/>
            <a:ext cx="445284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Organism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248520" y="3962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666880" y="2514600"/>
            <a:ext cx="3581640" cy="2581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3352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pm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2209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320040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bert Ei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3399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14600" y="2666880"/>
            <a:ext cx="39337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Times New Roman"/>
              </a:rPr>
              <a:t>By: Faith, Alison 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Times New Roman"/>
              </a:rPr>
              <a:t>Ange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5:09:06Z</dcterms:created>
  <dc:creator>fludwig</dc:creator>
  <dc:description/>
  <dc:language>en-US</dc:language>
  <cp:lastModifiedBy>rrvsd</cp:lastModifiedBy>
  <dcterms:modified xsi:type="dcterms:W3CDTF">2009-10-07T19:08:50Z</dcterms:modified>
  <cp:revision>4</cp:revision>
  <dc:subject/>
  <dc:title>Slide 1</dc:title>
</cp:coreProperties>
</file>